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30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8.png" ContentType="image/png"/>
  <Override PartName="/ppt/media/image7.jpeg" ContentType="image/jpeg"/>
  <Override PartName="/ppt/media/image6.png" ContentType="image/png"/>
  <Override PartName="/ppt/media/image9.png" ContentType="image/png"/>
  <Override PartName="/ppt/media/image10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26.wmf" ContentType="image/x-wmf"/>
  <Override PartName="/ppt/media/image25.wmf" ContentType="image/x-wmf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98280" y="771120"/>
            <a:ext cx="5102280" cy="38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199120" cy="4593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2"/>
          </p:nvPr>
        </p:nvSpPr>
        <p:spPr>
          <a:xfrm>
            <a:off x="4022640" y="9723240"/>
            <a:ext cx="3068640" cy="502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85486-5550-443D-92A2-826FA0EF17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0CF8D-90B8-4066-AD00-896DA6EAA5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62F19-8E24-4CF4-8C50-381F0B7CBA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A1BA0-93D5-4168-B9E5-CB57E96BC7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EF306-7C63-4A66-97E8-DD98360F95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47B0B-05BC-4BE3-A551-9932F26215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BB1B8-37EC-44CD-BBCC-6A5B511FAF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82215-5D65-4321-A395-443EA02259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648B0-45B2-4317-899E-CDE5CA28D7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B80C7-50A7-4A15-8DE5-71A0001C9D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DE886-E3FF-44E6-933B-D7773226B5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0DD4E-8110-4E19-AED9-34754BB807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87953-1B8E-4D15-9405-F2844C1DF8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4DA9D-FE95-4EF5-86CF-F1E735A7B1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35FF5-4376-4827-82EC-612C6FDA38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132CE-B527-4A50-BABC-9F6EDC1A9A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E5516-F162-4E98-89F6-1E8FE91A60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6D6B7-52EE-4357-BA0E-F03FA74262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001FB-52A9-4D63-A990-63108246DB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F2354-0943-425D-9B75-9F4DF3A00D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295FC-1FD9-4C3A-A188-CE7597C4D4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1AE3B-798D-4449-A715-0CF983D9C5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0E80B-2A48-4CA5-A96A-6EEB5CB97F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B583A-53D4-48D6-8427-B1DA0A837F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CFF2D-A79D-432C-B494-A2370DCA1F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16755-63A9-4FAE-8B81-B7009ADEDD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543A9-04DA-44B1-A9F9-1CB6F7E0E5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E6AF7-2A6E-4E51-A53D-195355A3C9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745ED-33C0-4A2C-BFB2-BE6A563487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E5CDF-5744-46CD-A15E-BF90800102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27D60-F17A-4CC4-9B22-A53877EFDC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C9FA5-069E-4309-B58F-62DE10A9A4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9A830-4D01-471B-9ECE-A129870792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93DE6-5836-44A4-88D5-5A9988AEF7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F3321-B530-4B88-B80C-19250B5010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DB4D-56EB-4182-862D-E69ABC913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47D7-3E2F-4DC2-A4B4-D7DEA117F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D6286-5E8D-4929-A419-010457369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780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104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92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780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104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2C08-FEBC-4339-A30E-DA41BC31A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59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17484-D037-45E2-8024-41F2492D8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8780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7104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92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8780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7104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4134-3DF1-42A3-84DC-0530F620D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A74AD-678C-4915-BF65-AE9CA2131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18BCD-BC31-45F5-94C7-E100A12F5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59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34A2-2C60-4C28-A106-C48D49113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2B71-E99F-44C6-9AD0-D9D0C3F63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6B247-8AFA-4033-A7D7-DBA964067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203C4-0603-44B4-ABF9-095AEE2A3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186760" y="6496200"/>
            <a:ext cx="906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05330-FD9F-4D03-885D-0C1D5A743F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ida.liu.se/labs/pelab/modelica/OpenModelica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56196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OpenModelica Eclipse Plugin and </a:t>
            </a:r>
            <a:br>
              <a:rPr sz="4800"/>
            </a:b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MetaModelica Exerci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3213000"/>
            <a:ext cx="712944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drian P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rebuchet MS"/>
              </a:rPr>
              <a:t>adrian.pop@liu.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ELAB/IDA/LIU,  2007-03-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Updated 2010-11-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by Peter Fritzson and Martin Sjöl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28A55-E88E-416E-8790-3C228C11EB9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ose all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0598E-DBDA-4462-B83B-567F0540AC3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 to Modelica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E5F07-89AA-483D-ADF1-DFB4558BA4A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how the OpenModelica Console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114E2-2DB0-4128-9271-B49C0F1ADF8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0_simples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perform a simple simulation in the MDT Eclips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ype or copy a simple model into an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Open the Eclipse view “OpenModelica conso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imulate with the simulate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plot with the plot comm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Note: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following exercises you will no longer use the “OpenModelica conso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DCAA4-6510-4E5F-A860-7EA9BAA2FD2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01 - 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6032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3E059-7746-461E-9544-436971D41AA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 the first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720720"/>
            <a:ext cx="6534000" cy="3600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80800-18DC-44F2-9E2A-5C61CF78F14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uild the first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971720" y="2700360"/>
            <a:ext cx="91440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780000" y="1254240"/>
            <a:ext cx="1979280" cy="1812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16040" y="2049480"/>
            <a:ext cx="709956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use Rebuild Project or the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ild Project only works if you modify a sourc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having pressed the button once, Alt+B can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8635F-01E8-446A-90E9-EEA2835DB9B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351640" cy="6264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4564080" y="2133720"/>
            <a:ext cx="736560" cy="237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09080" y="1440000"/>
            <a:ext cx="420840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4928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leans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4928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runs 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2835360" y="4861080"/>
            <a:ext cx="1744560" cy="131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619280" y="4861080"/>
            <a:ext cx="431640" cy="736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680" y="5580000"/>
            <a:ext cx="38260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tax problem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pd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save in the problems 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86040" y="5950080"/>
            <a:ext cx="35899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ild and run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displayed 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4AEB0-6920-416F-8922-7D39419EE67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42920" y="0"/>
            <a:ext cx="810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Debu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52948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FFDD5-D327-4F8A-8576-B392A3832CB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using O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Not yet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Debug data structures using printAny(da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You can also switch to RML for an algorithmic debug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AE158-2AE4-450D-9EDB-BF9B6F9DC47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Modelica MDT – Eclipse Plu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Browsing of packages, classes,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building of executables;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eparate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yntax high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completion,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query support for 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Ind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Debugger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(Prel. version for algorithmic sub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956200" y="1692360"/>
            <a:ext cx="299088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9031B-1296-438F-9BBB-97330CFB7EA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0"/>
            <a:ext cx="860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hanging compiler to R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900000"/>
            <a:ext cx="9144000" cy="50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6A3DE-1900-499C-8457-8A16A580926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0"/>
            <a:ext cx="860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ting the debug configuration (RML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B3FB7-B558-46D3-9CBF-D6CF18030F2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pecify the name of the execu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flipH="1" flipV="1">
            <a:off x="5643360" y="2341440"/>
            <a:ext cx="1260360" cy="655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24360" y="299736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Browse and select the executable you just bui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BF481-979D-407B-8F81-5965C7193D0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 breakpoints in .mo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flipH="1" flipV="1">
            <a:off x="2043000" y="2916000"/>
            <a:ext cx="1548000" cy="159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11280" y="4508640"/>
            <a:ext cx="31687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click on the ruler to set break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82F2A-633D-41F1-A1F4-965DBDCF0CB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0"/>
            <a:ext cx="874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un the debug configuration to start debug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H="1" flipV="1">
            <a:off x="963720" y="973080"/>
            <a:ext cx="1619280" cy="3176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03280" y="4149720"/>
            <a:ext cx="3384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and selec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bugging will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7DEDD-F600-46AC-BABF-56397C008CB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clipse will ask to switch to debugging persp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7B38D-3788-49B0-870B-EA7579C9650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flipV="1">
            <a:off x="1763640" y="1333440"/>
            <a:ext cx="2016360" cy="347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479736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buttons to st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step into works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219640" y="1620360"/>
            <a:ext cx="360360" cy="282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3280" y="450864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 variables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there is a tab with break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45629-929E-417E-B9E1-50EB8D3140B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ing p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flipV="1">
            <a:off x="4448160" y="1476000"/>
            <a:ext cx="3579840" cy="303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508640"/>
            <a:ext cx="35272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between Debug and Modelica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0F3A5-616B-44FD-BE16-395E4AA1EAD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repeat the procedure for all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02b_ex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a_assigntw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b_modassigntw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6_adva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7_OMCAndCor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leave open only the project you are working on!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ose all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D7758-A30F-4765-8327-4E42B2F12B5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98360" y="620640"/>
            <a:ext cx="862164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793BE-3533-4E73-96E1-12CAB9CCF65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clipse and Exercise Se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02b_ex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a_assigntw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b_modassigntw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6_adva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7_OMCAndCor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8-11 – as samples of Prog. Lang.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28D08-E7BB-44BF-9313-517D7D74F2E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Opening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96720" y="620640"/>
            <a:ext cx="8352000" cy="6264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580000" y="836640"/>
            <a:ext cx="2924280" cy="58197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572000" y="2060640"/>
            <a:ext cx="100800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33400" y="5445000"/>
            <a:ext cx="38275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pen additional vie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7b1c15"/>
                </a:solidFill>
                <a:latin typeface="Times New Roman"/>
              </a:rPr>
              <a:t>Window-&gt;ShowView-&gt;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16227-E215-4760-A77A-7445944FDF3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5280" y="91440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Each exercise is in a different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ll exercises hav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README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- information about the 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– the solution of the exercise (if the exercise has some implementation assig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program.txt</a:t>
            </a:r>
            <a:r>
              <a:rPr b="1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– input program to the exercise, edit if needed (for the exercises which have an in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nsult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MetaModelica Programming Guid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and the slides if you need additional information during the exerci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Of course, feel free to ask us any type of questions, it is faster and bett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C2875-3215-4307-9C1A-B46B607DE88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1_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functions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Function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o display the constants defined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Main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Functions.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5C1F3-2934-43EA-A511-6D28BBE5E52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a_exp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will add new constructs to the exp1 language and deal with their eval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- add new constructs to the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 power operator   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(^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 factorial operat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(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Exp1.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N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parser/lexer are ready, but give parser errors for the new operators until they are added 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Exp1.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4B93D-4E47-4E91-B522-6718CB5EA22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b_exp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model the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1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language using different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xplore th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2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 and compare it with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1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B2C2C-C7CA-4FB9-8083-7C4A735A243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3_symbolicderiv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rules to derive ‘-’, ‘*’, sine, cosine and power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rules to simplify ‘-’, sine, cosine and power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  <a:ea typeface="DejaVu Sans"/>
              </a:rPr>
              <a:t>SymbolicDerivative.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3BD00-93D8-4EF9-BA50-D94E230C873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4_ass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assignments present in the current program before the actual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environment after it was augmented with the ass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  <a:ea typeface="DejaVu Sans"/>
              </a:rPr>
              <a:t>Assignment.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C85B3-9E32-48AA-A822-26BBD0B3C24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a_assigntwo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a new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String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ype which can hold only integers as strings to the current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Exp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n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cases to evaluate expressions/assignments of the form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"2" + 1 + "1" + 1.0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i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eval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AssignTwoType.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00EE1-1CD8-440A-9C64-D6840E97AE1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b_modassigntwo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structure your code within different pack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e code from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05a_assigntwotyp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s now split over 4 pack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ompare the 05a/b pro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A5784-3B2A-4066-9911-A787502F9A1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polymorphic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higher order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function that orders a list of any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function has as input a list and a compare function between the objects of that l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the comparison functions f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Integers</a:t>
            </a:r>
            <a:r>
              <a:rPr b="0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,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String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Real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est your function o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int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25E4C-9E0D-415C-8BFC-FC77D43010E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ed Exercises in this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6032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CDE44-CFF5-4D9E-9DAA-03CE70E07C2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map function that applies a function over a list and returns a new list with th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three functions that transform fr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integer to re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integer to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real to 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Use your map function and the two transformation functions to transform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intLis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o a list of reals and a list of string, then apply the ordering function from Assignment 1 on the newly created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B30B8-DF09-4BFA-A191-F75C444B7B7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map function that applies a print function over a list (of Strings) and prints th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Use the transformer functions from real-&gt;string and integer-&gt;string from Assignment 2 to transform the real list or the integer list to a string list for prin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1A60C-194E-4AAA-9D1F-861A2B296C3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Overvi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213159"/>
                </a:solidFill>
                <a:latin typeface="Trebuchet MS"/>
              </a:rPr>
              <a:t>We are Switching to OMC Overview 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E8DDD-4B68-4959-8898-041F59CDAE7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160" y="-46440"/>
            <a:ext cx="746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Development Toolkit (OMDev)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MDev is a pre-packaged pre-compiled kit containing all tools needed for OpenModelica development.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lvl="1" marL="535320" indent="-20052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Just unpack and set some environment variables. (Windows)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lvl="1" marL="535320" indent="-20052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apt-get build-dep openmodelica (Ubuntu/Debian Linux)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MetaModelica Compiler (MMC) – for developing OMC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penModelica Compiler (OMC) – for browsing support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Eclipse plugin MDT – (Modelica Development Tooling), e.g. for compiler (OMC) development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Pre-compiled Corba (MICO or omniORB) for tool communication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Packaged Gnu compiler (GCC; Mingw version for Windows)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Emacs mode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nline (web) Subversion for version handling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nline (web) Codebeamer for bug reporting and management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Automatic regression testing using a test suite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Unit testing using the bootstrapped OpenModelica Compiler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Interactive MetaModelica debugger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4235E-6AA9-4C2B-BA89-CD59615DAF5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-79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Environment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26146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46120" y="1509840"/>
          <a:ext cx="7918560" cy="39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09840"/>
                    <a:ext cx="7918560" cy="39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E439C-023F-4304-926F-98002B36E40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lient-Serve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233360" y="1201680"/>
          <a:ext cx="657072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1201680"/>
                    <a:ext cx="657072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AE46B-9351-4B6F-9F99-E79458F7B96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leased in OpenModelica 1.5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Compiler/Interpreter – OM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teractive session handler – OMS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Notebook with DrModelica and DrControl –  OMNoteboo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Eclipse plugin M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mForge graphic ed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MetaModelica Debug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F8F0A-9EA5-40A6-8B56-EC3D4D1DEAA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ompiler/Interpr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3040" y="1125360"/>
            <a:ext cx="876312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1.5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urrently implemented in 280 000 lines of MetaModelica (1.4.5 was 180 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cludes code generation, BLT-transformation, index reduction, connection to DASSL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Most of the Modelica 3.1 language including classes, functions, inheritance, modifications, import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Hybrid/Discrete event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AE08E-6EEC-4B8C-8369-3EA0A0BFA74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rba Client-Server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914400"/>
            <a:ext cx="71247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imple text-based (string) communication in Modelica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PI supporting model structure query and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5040" y="2803680"/>
            <a:ext cx="7149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Cal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fulfill the normal Modelica function call syntax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veModel("MyResistorFile.mo",MyResis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save the model MyResistor into the file “MyResistorFile.mo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reating new models it is most practical to send a model, e.g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el Foo   end Foo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e.g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or Port   end Por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43063-C740-40D3-8B2F-0BC5D4CCC46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ome of the Corba API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03040" y="765000"/>
          <a:ext cx="8509320" cy="21732840"/>
        </p:xfrm>
        <a:graphic>
          <a:graphicData uri="http://schemas.openxmlformats.org/drawingml/2006/table">
            <a:tbl>
              <a:tblPr/>
              <a:tblGrid>
                <a:gridCol w="3237120"/>
                <a:gridCol w="5272200"/>
              </a:tblGrid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saveModel(A1&lt;string&gt;,A2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343080" indent="-335160" algn="just">
                        <a:lnSpc>
                          <a:spcPct val="68000"/>
                        </a:lnSpc>
                        <a:tabLst>
                          <a:tab algn="l" pos="0"/>
                          <a:tab algn="l" pos="343080"/>
                          <a:tab algn="r" pos="3392640"/>
                          <a:tab algn="l" pos="3649680"/>
                          <a:tab algn="l" pos="4564080"/>
                          <a:tab algn="l" pos="5478480"/>
                          <a:tab algn="l" pos="6392880"/>
                          <a:tab algn="l" pos="7307280"/>
                          <a:tab algn="l" pos="8221680"/>
                          <a:tab algn="l" pos="9136080"/>
                          <a:tab algn="l" pos="10050480"/>
                          <a:tab algn="l" pos="10326600"/>
                          <a:tab algn="l" pos="1077588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Saves the model (A2) in a file given by a string (A1). This call is also in typed API.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File(A1&lt;string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all models in the file. Also in typed API. Returns list of names of top level classes in the loaded fil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Model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the model (A1) by looking up the correct file to load i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$MODELICAPATH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Loads all models in that file into the symbol tabl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las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lass from the symbol tabl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mponent(A1&lt;ident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a component (A1) within a class (A2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lassAnnotation(A1&lt;cref&gt;, 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nnotation given by A2( in the form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 classmod(...)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the model definition referenced by A1. Should be used to add Icon Diagram and Documentation annota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343080" indent="-154080" algn="just">
                        <a:lnSpc>
                          <a:spcPct val="6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of the component declarations within class A1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154080" algn="just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{Atype,varidA,”commentA”},{Btype,varidB,”commentB”}, {...}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Annotations(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...}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f all annotations of all components in A1, in the same order as the components, one annotation per compone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mponents in a class, e.g retur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2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there are 2 componen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belonging class, component name and type name of the nth component of a clas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A.B.C,R2,Resistor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here the first component is numbered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flattened annotation record of the nth component  (A2) (the first is has no 1) within class/component A1. Consists of a comma separated string of 15 values, see Annotations in Section 2.4.4 below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false,10,30,...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Modification(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?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modification of the nth component  (A2) where the first  has no 1) of class/component A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nheritance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inherited classes of a clas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InheritedClass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type name of the nth inherited class of a class. The first class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ion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nnections in the mode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, as a comma separated pair of connector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R1.n,R2.p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 annotation as comma separated list of values of a flattened record, see Annotations in Section 2.4.4  belo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nnection(A1&lt;cref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 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connectio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connect(A1,A2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model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ith annotation given by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nne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onnection connect(A1,A2) in class given by A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Equation(A1&lt;cref&gt;,A2&lt;expr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expr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the equation A2=A3 to the model named by A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Equation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equations (as a string) in the model named A1. (This includes connectio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Equation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(A2) equation of the model named by A1.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der(x)=-1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r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connect(A.b,C.a)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NthEqua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nth (A2) equation in the model named by A1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or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connectors (as a string) of a class A1. NOTE: partial code instantiation of inheritance is performed before investigating the connector count, in order also to get the inherited connecto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 of the nth connector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n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connector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Ic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icon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DiagramAnnotation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diagram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conAnnota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Icon Annotation of the class named by A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DiagramAnnota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Diagram annotation of the class named by A1. NOTE: Since the Diagram annotations can be found in base classes a partial code instantiation is performed that flattens the inheritance hierarchy in order to find all annota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s in a class/package named by A1 as a list, e.g.: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Electrical,Blocks,Mechanics, Constants,Math,SIunits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 definitions in the global scop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tions in a class/packag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itions in the global scop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Restric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kind of restricted class of &lt;cref&gt;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model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connector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unction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packag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Typ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imitiv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of primitive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nector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connecto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Model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Record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recor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Block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block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Func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function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ckag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las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lass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rameter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paramete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sta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onstant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otected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protecte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Class(A1&lt;cref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Tabl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Model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Packag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8EF01-B46E-4A07-A8D0-E3E4CA97FE1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Switching Work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04640" y="608040"/>
            <a:ext cx="8332920" cy="6249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4371840" cy="2324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484360" y="3429000"/>
            <a:ext cx="151128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65200" y="1800360"/>
            <a:ext cx="465516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lean work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import many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3812A-3307-4F94-ACD1-9BC18FD6F15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OpenModelica GUI tools (OMShell, OMNotebook, ...) are developed on the Qt4 GUI library, portable between Windows, Linux,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Both compilers (OMC, MMC) are portable between the three platforms and compiled nigh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Windows – main release plat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Linux – main development plat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Mac –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9C162-AE10-4FA5-9135-3BD2AC641F7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Switching to Java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31708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93575-B38B-4578-AB11-9AA38DF8BFB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7_OMCAndCo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send commands to the OMC Compiler (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omc.ex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) via CO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OMCProxy.java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has functionality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tarting the omc process if is not already sta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starting is a bit different for Windows/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nding commands to O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logging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f you need clients in C++ or Python che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DejaVu Sans"/>
                <a:hlinkClick r:id="rId1"/>
              </a:rPr>
              <a:t>http://www.ida.liu.se/labs/pelab/modelica/OpenModelica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developer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35F76-BA05-48A8-ACC8-65F57B23B72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68360" y="627120"/>
            <a:ext cx="8307360" cy="6230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0" y="2095560"/>
            <a:ext cx="4762440" cy="47624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381560" y="209556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266920" y="6308640"/>
            <a:ext cx="936720" cy="549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274920" y="3492000"/>
            <a:ext cx="2376720" cy="282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58920" y="5013360"/>
            <a:ext cx="93672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108080" y="1125360"/>
            <a:ext cx="2967120" cy="352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1BD16-B14D-4095-9C3A-DD6733C937C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dministrative 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7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  <a:ea typeface="DejaVu Sans"/>
              </a:rPr>
              <a:t>What would you like to implement tomorr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7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  <a:ea typeface="DejaVu Sans"/>
              </a:rPr>
              <a:t>in the OpenModelica Compil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47880"/>
            <a:ext cx="74674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mport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7920" indent="-27792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le → Impor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General → Existing projects into workspac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340000"/>
            <a:ext cx="9144000" cy="39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9D572-D61B-4647-8B4C-98CBDE97746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 and Open all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D905F-60F9-4D00-A1D3-2CF7ECADC9E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on't build projects automat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3840" y="720720"/>
            <a:ext cx="887724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34DCD-408F-44B9-A3CD-453532C9B43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fresh all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2:12:12Z</dcterms:created>
  <dc:creator>Adrian Pop [adrpo@ida.liu.se, http://www.ida.liu.se/~adrpo]</dc:creator>
  <dc:description/>
  <dc:language>en-US</dc:language>
  <cp:lastModifiedBy>Martin Sjölund</cp:lastModifiedBy>
  <cp:lastPrinted>2001-06-05T14:43:50Z</cp:lastPrinted>
  <dcterms:modified xsi:type="dcterms:W3CDTF">2009-10-23T07:24:48Z</dcterms:modified>
  <cp:revision>44</cp:revision>
  <dc:subject>MetaModelica</dc:subject>
  <dc:title>MetaModelica Tutorial and Exercises</dc:title>
</cp:coreProperties>
</file>